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25E-EDCE-4EEC-8434-4B2F73AE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ABE-30C3-4512-91D7-DA0DE457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4F9-8F50-43F6-BC8B-305C3BED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30E-55C2-400F-B858-6B1B8653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636-35B4-492F-A7CF-5246649A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178-645A-4F4D-9BD6-F5F909A8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6C6-203A-4D71-882C-D78D4A5F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B90-7A47-40ED-B46B-D0AAFAD5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145-6C71-491D-84E3-74F311FC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44F-122E-4795-A55B-B2943076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9C7-6261-4C6A-BD53-4C982359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9C1-D7F2-4821-BECF-266E1027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B5F6-26AD-49DB-BC06-19CF92610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198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4240" y="1981080"/>
            <a:ext cx="228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02392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49440" y="2862360"/>
            <a:ext cx="114300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76212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202392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819520"/>
            <a:ext cx="114300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743200"/>
            <a:ext cx="76212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905120"/>
            <a:ext cx="76212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67812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702800" y="2108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4240" y="2819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1733040" y="2946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84240" y="3657600"/>
            <a:ext cx="228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1733040" y="3784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286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2286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28195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365760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800600" y="22860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366876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394164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2040" y="2279520"/>
            <a:ext cx="479520" cy="16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800600" y="3123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6840" y="2155680"/>
            <a:ext cx="10666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6840" y="1752480"/>
            <a:ext cx="106668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00800" y="1980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048120"/>
            <a:ext cx="10666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2644920"/>
            <a:ext cx="106668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400800" y="2873520"/>
            <a:ext cx="468360" cy="25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124080"/>
            <a:ext cx="46836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3962520"/>
            <a:ext cx="10666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559320"/>
            <a:ext cx="106668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51560" y="3787920"/>
            <a:ext cx="417600" cy="14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32480" y="3963960"/>
            <a:ext cx="43668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10:44Z</dcterms:created>
  <dc:creator>s</dc:creator>
  <dc:description/>
  <dc:language>en-US</dc:language>
  <cp:lastModifiedBy>OneTwoThree </cp:lastModifiedBy>
  <dcterms:modified xsi:type="dcterms:W3CDTF">2007-02-26T05:23:06Z</dcterms:modified>
  <cp:revision>6</cp:revision>
  <dc:subject/>
  <dc:title>Slide 1</dc:title>
</cp:coreProperties>
</file>